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3E92-B5DA-46DE-82CD-6694086B9F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3BBF-C4DA-4C76-BEC8-C07FC800D2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FF2C-D915-4884-8E02-81D2829066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364B-DCF7-40EC-8272-A524C12203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829E-72FC-41DD-BC23-1425DFFA8E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3FC4-1009-4336-9F93-B75F2948C0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C103-3CEB-4DBE-8638-9A37F5106F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3D92-E4AA-4895-8EE2-0C63B6BC30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9743-7136-4CBE-B8B0-3C7268B25F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0856-DC18-4459-BFFC-B703EB6E91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CBF-71EF-44BA-A16E-B7DE3DD4B9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2895-9109-4898-B7B4-D3B661CE0A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0445-C1CA-48FD-9DD5-947E1BFB09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C2A8-13D6-4278-8EF3-BDEC11B42F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ADBF-1C6D-49E5-9130-B17E159EB7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8608-321B-4455-A240-1C38A7569E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4603-B984-4A48-8D19-0E3C92C406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8EED-A2F5-4BEF-A0F5-4451919299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F76-108A-49D9-BBC1-B2C0DA5A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241-6F6D-4103-BD28-9397883A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458-283F-424A-A1DE-D3024472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D5B-554B-4086-8461-188ACCA2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5E68-354C-42BA-AD51-924D2AF2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59D-E00D-4272-A4C0-75752858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8446-86EE-4B6C-95FC-F70164B1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15F5-265F-49E8-8210-03A86E20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1B59-72E8-4159-B5E9-BA84A8FD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842-534B-48FA-BD85-CD51BE2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C03D-7244-46FE-9C9B-4CC7CCCE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285-A739-4416-B088-8DDE9775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081B-AC2C-4838-897C-401902EB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1C06-66FF-4B7C-B240-ABAFE67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0E54-0506-4ADD-B824-D33D9D79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C3D9-4942-4FE2-9E93-C2670D0A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1DCE-9E5A-4D8E-B55F-F654F095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C5E1D-DFDA-4445-8CA3-25FD8AFD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4730A-B2C1-4DD6-9285-4EDA04EA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F9952-D8F0-47D0-B503-156C6AB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8AD45-851A-4927-BE7B-1E661968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6A2BE-5148-410F-BE53-E401A8AC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06E-A413-4A83-8C29-2B9174CE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68689-E30E-41AA-B3F2-6A5510EB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47329-C7D0-4165-A047-CE20AACD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95BA9-214F-4580-8038-B22E2E46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BC7C4-89A2-4964-A0E3-6C91F181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A3E51-39D8-4E2C-9D08-E6CF7F55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CDF17-2056-4787-823E-A4875CD8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3EBFC-7B0E-4F4B-817E-B51C6C67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BFE55-719A-4171-B485-597BC486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84ABC-7DE9-4F9E-826F-A089D15E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36D32-081E-417F-89AE-E3903F76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A20-AE29-4C6F-AA0E-834F83EF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FB1C1-0B03-4E0F-BA57-4473446E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EE0A3-A7A6-4341-B167-94CF2C45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C985B-6942-4D65-8CD4-A573CE2C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0E646-2E60-4A3D-BD7D-F549C99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269CC-F288-4119-9329-1D071FE4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54884-E27C-4EB0-94C7-69CC519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E6924-90D9-4FAB-84E5-9FC65EC5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C63B8-7269-4E60-8C3F-CE6B0E85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42667-F835-4718-A583-C926EAC7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23297-297B-4AF2-BBBA-8AE531AE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F7D-3AF1-41FE-B561-5CC1167F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CCA7E-BC61-47D5-86F8-AC660084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7BD23-5C7D-493E-BAD1-0B98A615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EBD7B-569C-4D1B-92F9-C5C064DF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E6379-D000-4ED8-8681-526EE2A3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99448-14D3-4AAF-ACE7-70EC3979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FE773-49CE-4D5C-972D-D7E6506B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ADF01-170A-47DD-98C4-230CA475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4DDA8-17FA-40C9-B57F-B2A5DDF9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F32B5-2105-4009-B7B8-65FAECF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FE9BB-D01F-4D84-AE66-6D175A43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35C-C400-4724-B079-8418FD5A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24777-0D1B-4490-B227-D91F6A8E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0C750-294D-4B23-905C-93952309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964AA-C162-4DA4-B44A-8BAD067E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E474B-077B-4C48-9300-DF47CC4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1AADC-5041-4801-9F58-BC7808FB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788D-A384-4095-8CA0-2CAE248C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8DAA-B9B6-4977-A5EE-7BCAC8C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13AE1-1C47-4FAF-8118-667FB09A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0021-B713-45DA-9FE1-7D4663A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99E3-6474-47EA-889B-ACE5C438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47B-0F34-4672-BDA8-1F82F48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20031-CCBC-461E-8B50-A905B145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DF629-B831-4E70-9A2C-CC18C124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F1810-FA35-4F00-80D0-91646F5D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A7399-B449-4F6C-8667-C852E74E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1CF28-676C-44B5-B228-7F9CB038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56032-ED9E-4FF0-960F-68F56863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A8BE0-9860-432F-93A5-AB7B1EAA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984F2-2905-40A8-85D9-183B0524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BECF2-4A2E-4E87-AD73-4FBD445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225CF-2349-4C3C-9555-74325260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85B-F723-4557-A655-88C88038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CAB29-4E97-4546-8B8B-C46C9BC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5708D-5B07-47A5-8254-D2022681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F54BF-DA3F-4040-B676-900FEAD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EB0B1-CEB0-457C-BEFC-2A9894E0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1FBF8-AA7C-4DBA-B37E-ADA4ED7B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D45A6-75DC-4F0E-BE7A-B764603C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2F25-4396-4ED7-97AB-E07251A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49BB-8F98-46AB-8331-7D24ABC9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44692-127F-4489-8576-EF08CB91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8D583-69B1-4D3C-8E2C-ABCCB9D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BD8-704C-4631-A22C-11B5DAEB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B6B27-23BB-4FEB-8AEE-B87905D6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72FCC-B293-4328-9B1A-DB37208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F6078-5576-4B88-9BF8-3A95AE7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5CD6E-8095-4981-A0B3-9C0C2E5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BB872-A135-419A-AECF-40AF7EE9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816FF-16ED-4E3C-9054-282485F1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9EDB-05E6-402A-B26A-9F5D19BB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A2E1-A332-4A30-95DE-3A3551136F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F452-B7DB-4806-B61C-F24B413C305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1F6F-830B-4B11-8E1F-5B9A2907377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1A58-0A0E-487D-BE17-C1AB9E889C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792-1217-4DDE-97DC-5018DE83ED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2981-8E47-4B7F-B0A5-24D6C58B207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8EBE-C0DA-4C50-931F-AF3C16E8E0F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7C35-4726-434B-AABB-556C734538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rançais 3 - Introduc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w Cen MT"/>
              </a:rPr>
              <a:t>Comment est-il? Comment est-elle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immy Fallo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9" name="Picture 1" descr=""/>
          <p:cNvPicPr/>
          <p:nvPr/>
        </p:nvPicPr>
        <p:blipFill>
          <a:blip r:embed="rId1"/>
          <a:stretch/>
        </p:blipFill>
        <p:spPr>
          <a:xfrm>
            <a:off x="1270080" y="1295280"/>
            <a:ext cx="6350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5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riana Grande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7" name="Picture 1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m Brady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1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AVOIR + # AN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nerd"/>
          <p:cNvPicPr/>
          <p:nvPr/>
        </p:nvPicPr>
        <p:blipFill>
          <a:blip r:embed="rId1"/>
          <a:stretch/>
        </p:blipFill>
        <p:spPr>
          <a:xfrm>
            <a:off x="2536920" y="1752480"/>
            <a:ext cx="4140000" cy="51055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8"/>
          <p:cNvSpPr/>
          <p:nvPr/>
        </p:nvSpPr>
        <p:spPr>
          <a:xfrm>
            <a:off x="5867280" y="1447920"/>
            <a:ext cx="2971800" cy="1523880"/>
          </a:xfrm>
          <a:prstGeom prst="wedgeRoundRectCallout">
            <a:avLst>
              <a:gd name="adj1" fmla="val -65759"/>
              <a:gd name="adj2" fmla="val 17520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onjou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18 a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#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228600" y="16765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on â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immy Fallo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346040" y="1295280"/>
            <a:ext cx="6350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4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riana Grande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2362320" y="132084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m Brady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50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NOU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gm20--siamese-cat"/>
          <p:cNvPicPr/>
          <p:nvPr/>
        </p:nvPicPr>
        <p:blipFill>
          <a:blip r:embed="rId1"/>
          <a:stretch/>
        </p:blipFill>
        <p:spPr>
          <a:xfrm>
            <a:off x="2413080" y="1905120"/>
            <a:ext cx="4673520" cy="47149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0" y="2133720"/>
            <a:ext cx="2590920" cy="2743200"/>
          </a:xfrm>
          <a:prstGeom prst="wedgeRoundRectCallout">
            <a:avLst>
              <a:gd name="adj1" fmla="val 75120"/>
              <a:gd name="adj2" fmla="val 8564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yeux bleus. Mia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yeux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__________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5486400" y="7621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shorthair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êtes-vou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567480" y="3124080"/>
            <a:ext cx="2590920" cy="2057400"/>
          </a:xfrm>
          <a:prstGeom prst="wedgeRoundRectCallout">
            <a:avLst>
              <a:gd name="adj1" fmla="val -98351"/>
              <a:gd name="adj2" fmla="val 6222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cou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562720" y="3049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7" descr="the_happy_carpenters_2nd_cousin"/>
          <p:cNvPicPr/>
          <p:nvPr/>
        </p:nvPicPr>
        <p:blipFill>
          <a:blip r:embed="rId1"/>
          <a:stretch/>
        </p:blipFill>
        <p:spPr>
          <a:xfrm>
            <a:off x="3048120" y="1676520"/>
            <a:ext cx="3443040" cy="51814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304920" y="1752480"/>
            <a:ext cx="2590560" cy="2057400"/>
          </a:xfrm>
          <a:prstGeom prst="wedgeRoundRectCallout">
            <a:avLst>
              <a:gd name="adj1" fmla="val 100120"/>
              <a:gd name="adj2" fmla="val 109569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long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5486400" y="22860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43006056_913807e81d"/>
          <p:cNvPicPr/>
          <p:nvPr/>
        </p:nvPicPr>
        <p:blipFill>
          <a:blip r:embed="rId1"/>
          <a:stretch/>
        </p:blipFill>
        <p:spPr>
          <a:xfrm>
            <a:off x="1371600" y="1712880"/>
            <a:ext cx="7315200" cy="4916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6095880" y="1752480"/>
            <a:ext cx="2590920" cy="2057400"/>
          </a:xfrm>
          <a:prstGeom prst="wedgeRoundRectCallout">
            <a:avLst>
              <a:gd name="adj1" fmla="val -79287"/>
              <a:gd name="adj2" fmla="val 96324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roux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5486400" y="1522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yao_ming"/>
          <p:cNvPicPr/>
          <p:nvPr/>
        </p:nvPicPr>
        <p:blipFill>
          <a:blip r:embed="rId1"/>
          <a:stretch/>
        </p:blipFill>
        <p:spPr>
          <a:xfrm>
            <a:off x="2286000" y="1828800"/>
            <a:ext cx="4459320" cy="7848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êtes-vou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ÊTRE + ADJECTI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6324480" y="4191120"/>
            <a:ext cx="2590920" cy="1523880"/>
          </a:xfrm>
          <a:prstGeom prst="wedgeRoundRectCallout">
            <a:avLst>
              <a:gd name="adj1" fmla="val -75490"/>
              <a:gd name="adj2" fmla="val -146773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gran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04920" y="1828800"/>
            <a:ext cx="2590560" cy="1523880"/>
          </a:xfrm>
          <a:prstGeom prst="wedgeRoundRectCallout">
            <a:avLst>
              <a:gd name="adj1" fmla="val 49254"/>
              <a:gd name="adj2" fmla="val 10460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pet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486400" y="3808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 – Le verbe </a:t>
            </a: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AVOIR (to have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762120" y="19810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J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762120" y="264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762120" y="32767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762120" y="3940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762120" y="4648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8"/>
          <p:cNvSpPr/>
          <p:nvPr/>
        </p:nvSpPr>
        <p:spPr>
          <a:xfrm>
            <a:off x="3886200" y="19810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n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3886200" y="2644920"/>
            <a:ext cx="14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v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3886200" y="3276720"/>
            <a:ext cx="10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388620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106668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219320" y="264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1143000" y="3279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160020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1447920" y="4651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487692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v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4876920" y="264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ve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19"/>
          <p:cNvSpPr/>
          <p:nvPr/>
        </p:nvSpPr>
        <p:spPr>
          <a:xfrm>
            <a:off x="4419720" y="3279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487692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685800" y="53341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C’est le verbe </a:t>
            </a:r>
            <a:r>
              <a:rPr b="0" i="1" lang="fr-FR" sz="4000" spc="-1" strike="noStrike">
                <a:solidFill>
                  <a:srgbClr val="ff0000"/>
                </a:solidFill>
                <a:latin typeface="Tw Cen MT"/>
              </a:rPr>
              <a:t>h</a:t>
            </a:r>
            <a:r>
              <a:rPr b="0" i="1" lang="fr-FR" sz="4000" spc="-1" strike="noStrike">
                <a:solidFill>
                  <a:srgbClr val="660066"/>
                </a:solidFill>
                <a:latin typeface="Tw Cen MT"/>
              </a:rPr>
              <a:t>av</a:t>
            </a: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ir</a:t>
            </a: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tru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vaillez avec la personne à côté de vou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éez des descriptions des personnes suivan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pouvez mentioner des aspects de leur portrait physique et leur portrait mor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comprenez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ns-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9-16T10:52:39Z</dcterms:modified>
  <cp:revision>84</cp:revision>
  <dc:subject/>
  <dc:title>Allez, viens! – Level 2</dc:title>
</cp:coreProperties>
</file>